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dt" idx="4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ftr" idx="4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 type="sldNum" idx="4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A97A-B03D-4597-AFB0-1C7A66415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D329-7581-4A1B-98E5-C079E0772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C6E6-B179-483E-8EC1-4A1F6E7A2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D4F1-E035-4E0C-A9F7-3FA4154C2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F3E9-ECDA-4B62-97FC-D5709C83F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AC00-AFB1-4B2A-9F9D-6D90B3C7E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601A-EC81-4F1B-B407-01B8EFF1B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0EFD-BDEA-483C-979A-10CC3A547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or Number and Quant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61B3-A39D-4BD3-85DA-54D026887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2308-8A57-4BC4-8EE9-7E1EE5D97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0560-5008-4613-80F3-83DBF78F9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D47F-5E76-45E9-8F8D-071FBA1A0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D24A-6A5E-400E-8ADD-42F7C3618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770D-F220-4ACA-9B98-89895B402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8973-0466-44AF-9EE0-BEF020A96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A24D-9313-4424-9A9A-E0F76852D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F83A-501B-4AC7-9A37-3259FD345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6F22-BD61-4C3A-BECA-F0A8FEE39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8CD4-A786-4365-8ED1-A59A1A019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A0FD-0D54-4092-95AF-B773F8FFF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FD69-3228-4D48-9AB4-BF79DA94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1B61-6F72-46B4-BEA4-5FCDE55F4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1C3D-5D1C-4502-B174-ACEA14A59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1BA1-3811-4ECC-8A74-CB2531E33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D659-96DF-467C-AC93-14D5C0DBC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859A-71E0-4E82-81A5-E99B62D94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E6AA-2687-4490-87F8-BA0F3E3F4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797D-1532-4005-ADA8-A266FF08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044A-C886-42F0-BA0F-D08EC2FF9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702B-4636-4FA0-A789-47EB7835548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6A02C-1DE8-4E77-87A2-ECE012BDBC7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378E1-63EC-4B08-9B17-FB31FC2CA47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22A8E-755E-4581-9BE0-16B4B38F2BF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0C444-9B99-42BC-B22C-219DE6F7020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04CFF-1DE0-495C-A2DC-A8ED59E4F39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A9ED5-8734-4250-A7DD-1170C776D5D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E17FE-6CDE-4970-BFAA-44960DBD1CD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7515D-5DEB-4170-ABEB-B60905B20B6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75850-FF93-4832-903D-BCDE591396F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65685-0357-46E0-9A27-99035E91A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B588-D9D3-4C34-9737-640A7ABF536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2AE64-9E3A-4F18-A907-69C848BBC57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EF227-0EBC-4E1E-8900-149C69E5035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81FF0-83AA-4377-81C6-ECDDB8E0E2D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27DA8-92B3-4E68-9C63-8F8EE4D7676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8447E3-82FF-4B64-BB38-62D938CB0D0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7C496-8C8E-4E7F-9101-1EE6026730D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B87B6-40E3-4CC1-8C1E-2D5F9A2749F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8AAE5-DFE3-466F-99FB-EFDAED4B6DA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924A3-C648-462D-89F2-875A891E71F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103F4-73F9-410F-921E-B2D5307AE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F85B-7563-4021-AF0E-791ECB4503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3708D-A9CF-4051-9674-9F5661B7159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3503E0-D03A-44FA-85E6-701EF461D5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E78E5F-EB37-42DA-B1DA-30A75B20DA7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660456-2642-400B-8783-D4B6718E772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26F5D9-6B63-438F-9D1B-67084953B32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C9D509-CC45-4E55-921A-05FE5BC0849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A02983-1835-4B56-8274-F0027E39F6F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65236F-74BB-476E-81F9-F7B5A1F9229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5139FC-424A-46AC-8568-0AFBDA45C99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ADCE48-8BBB-49E0-BFD9-4182D7F25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2AC-A9C0-4CF2-BCE0-7F9FF72DE5C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AB4E95-DD89-4F6C-83D7-FB7C2268DEC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B0149B-79D2-4BB1-B432-9024C7AFC83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C37AB4-174B-4A09-A210-B58CD70806B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27CE4-F601-4E5D-B881-A52CED891F0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D9050-4A60-4E00-9BCA-F5E00CBECD0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C61D4-7124-4C72-9396-15739CDBC8F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63A5B-0B1A-4EDD-9A94-F134470B99C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C2796-C1DC-424F-8F09-B0212212C99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D8048-935E-4B5D-BD82-60FAB849D7C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A739E-61B2-4A10-9191-055DFDE6D2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1E0-8A8B-4C22-A206-C43F198740A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CE906-773A-4B22-B70F-92866047331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245A8-6D08-466B-A0EB-0A40B76C3BB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1E91C-6FA2-490E-98F9-861B59B93C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6587E-7CDD-405E-A3B0-025C072E35A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FC0DB-55DE-411D-BF67-8B9A85FC0B3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54E-2C48-4CF6-98B9-6539E8D64F1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1E8-0352-4598-B350-E2EDCFD12E8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B7B-2F53-41D9-B4E0-871398A7968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104-C545-45F9-927C-7F98AE440D9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1DB76C-2CA2-41F2-913C-EA89B889F47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2A364A-3EC7-45D4-9D7B-613B4445853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28F2CB-F5D2-4A47-A0B7-70CE450C8F3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C3934A-DE43-4164-8DAA-1C678A800FB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057461-0ACF-4977-80A4-DA2C2898BA2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94DCE4-1725-4813-B877-0722EC6CFFD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14CEBC-5233-4B7F-8644-3B7D10814CE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D8D76E-F080-4B3A-9310-DA828683CB1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5B7571-876E-4AF7-90DF-A2D2E2BEB7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FC9-B6E7-4E52-9CD1-87EE92672FD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B6B9EC-249B-4500-9284-390CD53C17F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2AE544-3B44-4D8D-952A-644B304A3DB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E5D884-93BE-449D-9780-E1ECD74FCAB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E32C50-02DB-40DC-AE30-7C1B2C6290E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9B393-F32C-4F16-91E1-CD3BC92F898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327AA-F281-495E-A4A5-EB37D36BC1D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CE757-9B57-4E9B-BBBB-54466C77CCC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4FBCA-E4D3-4DCE-9393-9DB55173822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6D312-C5F0-4C4E-87C0-531243F6DB0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B31ED-8A58-42A3-8522-34A4C7EE39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8198-4DD3-428C-B389-E05778DA8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F21-EA14-4693-98E6-4A9D710B045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8AC2A-FADD-4795-89CC-EC466BC746B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6DB1C-4324-44DF-ACA2-49279FD1933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3D9EC-24A6-4D32-824D-0FC941AAAF1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75F60-61EC-480B-A437-E5704127F34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06366-3BF1-42B6-9A61-EDBEB1B58FC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20B17-92FB-4EFF-9E57-D6DE377B568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1CEF1-674A-4F23-8608-3631A562CAE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577C1-C16C-4211-8EEE-7BDC27A45E7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69464-E5EA-452D-9A68-EA35A41FB80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73754-0E5E-4446-875C-41DCCB659B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933-80A6-479B-8B5C-AC664603860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9C7D1-A37F-4B31-9090-2B4CEE0BDF7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05F4E-3887-4E25-AFB8-9446C1C78CC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4A489-3DB6-42E5-8290-3963F8D2EF6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324D3-1BF1-4D97-A76F-CB4916C53BD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719EB-D400-4780-A946-ABCEDB350C2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A97E6-F383-4394-A4BA-B62AD944C24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C942E-0A09-4AB2-8320-9A9F609CF70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BE98A5-DFD0-4FFD-A868-1100937EF6A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27BE42-1081-44D4-8586-D9D8E2F6774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3687FA-5157-4F0B-AF46-A866284708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E6D-72CC-4C55-9792-29BE297FED4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751D64-FC07-4970-B0C8-DCAC5381BD5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20EBB4-FBF3-472D-BA09-FC24B757868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0E0120-E7E5-494F-8C33-A0A61656D1C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488157-6991-4879-A7CA-A98CE206B03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424A9B-A609-4253-BF34-1C693BB41F1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A77A2B-06DF-4159-9041-2529C65F593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CBE720-22EE-4495-BB43-E7509B98CFB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D79853-D67A-48F8-B10B-3F1B19EBB02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F04F53-F9D0-4941-82B7-E2404D19FD6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5615A7-9E4B-4E20-8EC2-38F81A2753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245-7E77-4B9C-A2BF-3A57601B0F1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EDFB67-B8C2-4120-B15A-1228CF3E175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C4D9B3-ABFC-4D65-A36D-F0603E94EB1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73DB10-BE06-4982-BB1F-DCD75F4DE6F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02CF1D-6A13-4049-BB3B-A3D9D3C7128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CAF93D-9049-46BD-A270-99E401E4982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5D48A9-1C12-44F6-B8A3-00371206B82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2690F0-1B72-4F41-B06B-9753EEA1E70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9568B2-5E07-4E5B-8C9A-4BD8AD5C44D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EB281F-B74D-4CCD-82D7-B05E7E0563E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8BD629-AFE2-4253-832C-99537CCB19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0D0-6DA2-4D0B-A57B-DDA53F4276F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6485F4-E0FC-4EA3-B8CD-7504F4D4D19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0E54B-1B31-4B2F-95E7-506DC25C7DA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1B7BF-69E9-4C94-AD2F-C00CC1F33BA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4372E-418B-4F6D-92D0-78567A8DFCF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19272-B16A-494E-993D-13337E79A04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841D0-AA32-45A6-920E-8DC21B633A3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1B477-5980-4730-A3A6-25F70F76B8F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3F451-C7DA-4695-9625-11DD622ABC5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E9543-ADAF-470B-8D8A-A52A51AD570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F1F36-9E1F-4BC7-9B6F-5163B7FA8A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4D244-49C4-41B0-BF11-56357317C02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D2771-CF7D-4222-9065-3036CEDD207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9DE53-A5CC-4063-9015-6FEBC3506EA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E03CF7-D762-4509-8596-2F114FC4362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E9E160-5025-4513-9F7A-89C34564EC9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4E8237-02E6-47D6-B77B-4854667F1A1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DF0DED-F304-4F60-B4D5-571DD6E6E86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265198-FDC6-494C-8ED8-221B9246987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086E54-82A3-4957-94BC-32A998C833C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3754B2-A58F-4E39-B8B7-01FC94E1C9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86E2AB-C439-46AC-BD2E-6714351BBB7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C6A3E7-53DF-40FA-B9A9-C6A12227256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F67ECE-B9AF-4102-B41C-359D2C6D762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8F0687-34E0-4F2B-B8C3-7778BAAC6CA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E8CEE8-1A3C-4D79-93A4-FE139F2F7CB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479F78-C3E1-4467-B25B-DEC37074001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8A7F8F-7C1C-4220-90B5-064FA43EE8E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645951-8F3C-4B1F-8C0A-2BEE14BD055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32456F-F239-4072-9A1C-D0D39F1607C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864A03-4ACE-43E8-82C7-C021D09F3F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D5B4D8-A05C-462C-ABC2-B576A6680C8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57F3B9-AAAE-46D4-A582-96063A1C313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495166-BDD2-4298-8934-F9A89AF37BE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DD14EC-73E7-4BEB-B64B-7DC684CDD80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1BF0EB-2D99-4925-97B4-571367DC011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F2DADB-D97F-441B-9B73-C6AB12F8E1C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838DA8-A7E0-4293-BCE8-41A4F116C53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B8970-4716-4C83-8DBB-034676DDA89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A8CCD-74BD-46B0-9A48-B520A7181A3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FB2A5-9B87-4876-8EC1-1717A8276A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D4E2A-6C69-43C6-AE74-06E142286EF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5B247-7C05-40BB-B12B-95906326097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6A378-5241-4EA4-9FC4-C27294599C1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B692A-8847-4B92-920A-053D2F733C7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2650B-7336-4231-B46C-FBF60657203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238F4-BE8E-41BC-B910-C0CB05126B8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B01D1-C36C-4977-A7F3-6E584FD01E6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08F2D-D6C5-4A98-83E7-CC7B92F3CD0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20488-A5CD-44DA-94F5-3F3C5329497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DB22-978E-48F3-9225-96843B7930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68C90-D650-4C35-A9C2-0238E8BBE1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DABFB-9BB6-4D2F-93AB-932B28B290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5ABD3-8DFF-4EEB-858A-D683BFEC9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24EA-E61D-4BD9-84DE-BDA08D385C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B47E7-4BDF-48A2-8A97-09F361A8A2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72166-1121-44F0-8A4F-14D2D1AE0B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5803D-68C7-437C-84FE-AFE8ADDEDF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72CE5-3613-4159-82B2-B9BA526DFD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D20BF-C3F4-4020-8722-E3EF80F3EA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AA51A-7F81-4D7D-AF9F-B0216ADEE3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EC79F-747C-4276-8CAA-A32FE84952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3B2F3-8EFB-41CC-95C0-7FC6754F9B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E4AF4-F58B-4864-8A6B-CA8824C9410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DBAD08-A17A-4851-B532-19575120C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859F-F152-443E-89C6-3D9D97862E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8DC06F-ED89-4E1D-8EC2-98E9B7C8227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C7F08F-27FF-4255-8110-FCFC233498A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E369A8-8F55-4360-9215-F24F391916C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205D7C-CC0E-4137-B23B-2EF5C561650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29F9E0-159F-4827-8A75-1C96DFDF3D5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945598-1C66-471A-9A08-177DA9B0732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928690-DCEE-4623-8CC3-D11E017B28F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42581E-2CA5-409C-9AD3-D54C4DE5B13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04D6F9-17EE-4156-A142-55047D31FB9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C904AD-296F-4225-A623-784C27063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DFB9-D2D4-49CF-A66C-8ECFB1F247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2EB71-E4C7-4EB3-B9B6-CAE6FD6ABF1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DB4C2-E846-4E33-B054-136C942D41B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6943-7085-4D2E-A86E-07E702EBB9F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3404B-C9C8-4AEB-8DB5-B8265DCC644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67E8-65C1-4D6B-8511-4D610AA1C55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A67E-69AC-4058-81C0-0EF8758068E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F9E14-3ED0-4C6C-A692-52C44CD496C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8A8AC-96DA-47CE-906C-41AEEB9D402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2025-C7BF-4E9E-A0BE-F423EBAC579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D7F88-9578-4E53-AFA5-C4E42E953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B57E-63B6-4799-A720-1E9AE1D22CC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9F04-B9E0-4E71-B814-3592C44F74A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32F62-4DFC-42E1-99C2-5F0846CBADB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CE32C-E80C-4212-B2D7-138DC9C81D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FB771-8047-4C07-8A9B-3D309A930C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8BB1E-A0DE-4B2C-9AB1-3A4C0E075F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50590-13B4-4E63-AE1F-503752E261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5E3BD-D552-4E07-A78F-813B57A98DB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94CC4-BB06-48ED-BD1B-54FBB762D9D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D0B5E-6E51-4E11-BAD7-B4B4D420C2D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CCD95-BD41-44BB-8681-A9E038B3E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5A9C-6BF9-49BB-8041-AC10883E35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1F21A-B4A4-48F0-9C46-0BD38E9B95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F10BD-04A0-4F8D-B96C-5360E9F8CB7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647C8-164B-47D8-8992-477A27248E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116B6-34EA-4448-B88E-63795D7DD2A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563EEA-61F5-45F7-B4B5-E89ABEE3BD4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6A33B5-577B-4E36-A591-6AABE1FF2AE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75E8F0-00AE-4C94-B8E9-FBCB65B5100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AAEB20-6ABA-4A13-86B6-F4B675A7F60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6ADA43-3D26-4B48-886B-E1ACDDDFC4A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19DFEF-AE6B-4251-909B-0AD5FA489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5B8D-B0D6-4E4F-9402-F3D1D8EBFF7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2C1148-1E87-4AA2-843B-0684E0F872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70DF60-358C-4B65-AFE9-EE30567F6D2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DEF53F-A072-4F40-8C20-CC4A37809F1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A0B950-320E-47D3-BEF7-BC5348B47A0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6D934E-46C8-42BB-BF9D-23E7C96C7E5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2C269C-B6A3-4774-ABBA-33BC36C4C42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2177AD-81E4-4DA9-A5A4-239CED760B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489E2-55AE-4AC4-9389-F85CA83BC16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F6853-A8B5-4E12-8474-0BDD7EA1811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CBAF4-7E85-44CD-A827-D89293102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3" name="Picture 10" descr="icon_logo"/>
          <p:cNvPicPr/>
          <p:nvPr/>
        </p:nvPicPr>
        <p:blipFill>
          <a:blip r:embed="rId4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27F1-0E49-4AEA-A9DB-3683E06BAC20}" type="slidenum">
              <a:rPr b="0" lang="en-US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7929-C79F-40CA-B179-AA9690D35FE8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18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6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C4A1-1D26-4A9F-A8DD-BD27E20E6735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512" name="Picture 12" descr="_0013_14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DF25-01E1-451D-9DFD-2B2D36FDBEA4}" type="slidenum">
              <a:rPr b="0" lang="en-US" sz="1200" spc="-1" strike="noStrike">
                <a:solidFill>
                  <a:srgbClr val="9f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671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673" name="Picture 9" descr="_0010_11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Num" idx="2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5CCD-429B-4C63-8CE3-73D2692C2C17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718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4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720" name="Picture 9" descr="_0011_12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2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B7FD-5DF0-42D2-9E3F-3F13FC8BFB39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2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76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19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sp>
          <p:nvSpPr>
            <p:cNvPr id="767" name="Freeform 9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8" name="Picture 11" descr="_0014_15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sldNum" idx="2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E84B-262B-43F4-B80F-EBEDC3095993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28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812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37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814" name="Picture 9" descr="_0009_10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sldNum" idx="2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51A1-759F-4AD7-A33F-C877C46A0068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3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47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4742-CA3E-42E2-9356-27EF962D5206}" type="slidenum">
              <a:rPr b="0" lang="en-US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85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14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861" name="Picture 9" descr="_0012_13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sldNum" idx="3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99D2-F0CC-4F10-BDB2-84989AB3C5FB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32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06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sldNum" idx="3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876F-7A39-4C7E-A315-DD73F4A074B7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3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4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sldNum" idx="3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DBA6-0386-4D85-AB34-26920FC6303D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ftr" idx="3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92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31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994" name="Picture 9" descr="_0015_16.jpg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Freeform 21"/>
            <p:cNvSpPr/>
            <p:nvPr/>
          </p:nvSpPr>
          <p:spPr>
            <a:xfrm>
              <a:off x="137160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3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1589-6A59-46F2-B8CA-232428344A78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38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03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1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1041" name="Picture 9" descr="_0013_14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sldNum" idx="3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C6DC-182B-4169-A789-FA981C7E6D17}" type="slidenum">
              <a:rPr b="0" lang="en-US" sz="1200" spc="-1" strike="noStrike">
                <a:solidFill>
                  <a:srgbClr val="9f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4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132" name="Picture 12" descr="_0010_11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AD4E-484B-4FCF-A246-8AB6B3C2BF6A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78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181" name="Picture 12" descr="_0011_12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080F-36BC-4271-AECB-9378CB79B33E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sp>
          <p:nvSpPr>
            <p:cNvPr id="230" name="Freeform 12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13" descr="_0014_15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93CF-05F2-4A6C-8907-BEDA89893B0A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6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7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279" name="Picture 12" descr="_0009_10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929A-F16B-4CFF-A0CA-D9B93C6CD95F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4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328" name="Picture 12" descr="_0012_13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1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B86C-6FBE-42BA-9F14-8C0F064726C3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7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1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1828-E829-4AD2-BB99-116B71688D10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6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6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6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6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6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65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Picture 10" descr="_0005_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8" name="Group 38"/>
          <p:cNvGrpSpPr/>
          <p:nvPr/>
        </p:nvGrpSpPr>
        <p:grpSpPr>
          <a:xfrm>
            <a:off x="0" y="47520"/>
            <a:ext cx="9153000" cy="6886800"/>
            <a:chOff x="0" y="47520"/>
            <a:chExt cx="9153000" cy="6886800"/>
          </a:xfrm>
        </p:grpSpPr>
        <p:sp>
          <p:nvSpPr>
            <p:cNvPr id="1169" name="Freeform 39"/>
            <p:cNvSpPr/>
            <p:nvPr/>
          </p:nvSpPr>
          <p:spPr>
            <a:xfrm>
              <a:off x="958680" y="431640"/>
              <a:ext cx="8191440" cy="6502680"/>
            </a:xfrm>
            <a:custGeom>
              <a:avLst/>
              <a:gdLst>
                <a:gd name="textAreaLeft" fmla="*/ 0 w 8191440"/>
                <a:gd name="textAreaRight" fmla="*/ 8191800 w 8191440"/>
                <a:gd name="textAreaTop" fmla="*/ 0 h 6502680"/>
                <a:gd name="textAreaBottom" fmla="*/ 6503040 h 650268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"/>
            <p:cNvSpPr/>
            <p:nvPr/>
          </p:nvSpPr>
          <p:spPr>
            <a:xfrm>
              <a:off x="0" y="405252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"/>
            <p:cNvSpPr/>
            <p:nvPr/>
          </p:nvSpPr>
          <p:spPr>
            <a:xfrm rot="10800000">
              <a:off x="8348400" y="597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42"/>
            <p:cNvSpPr/>
            <p:nvPr/>
          </p:nvSpPr>
          <p:spPr>
            <a:xfrm>
              <a:off x="279360" y="47520"/>
              <a:ext cx="8852040" cy="5448600"/>
            </a:xfrm>
            <a:custGeom>
              <a:avLst/>
              <a:gdLst>
                <a:gd name="textAreaLeft" fmla="*/ 0 w 8852040"/>
                <a:gd name="textAreaRight" fmla="*/ 8852400 w 8852040"/>
                <a:gd name="textAreaTop" fmla="*/ 0 h 5448600"/>
                <a:gd name="textAreaBottom" fmla="*/ 5448960 h 544860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8"/>
          <p:cNvSpPr/>
          <p:nvPr/>
        </p:nvSpPr>
        <p:spPr>
          <a:xfrm>
            <a:off x="3581280" y="3581280"/>
            <a:ext cx="55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Understanding the Common Core State Standard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5" name="Picture 44" descr="small_logo.jpg"/>
          <p:cNvPicPr/>
          <p:nvPr/>
        </p:nvPicPr>
        <p:blipFill>
          <a:blip r:embed="rId2"/>
          <a:stretch/>
        </p:blipFill>
        <p:spPr>
          <a:xfrm>
            <a:off x="385920" y="5897520"/>
            <a:ext cx="2141280" cy="600120"/>
          </a:xfrm>
          <a:prstGeom prst="rect">
            <a:avLst/>
          </a:prstGeom>
          <a:ln w="0">
            <a:noFill/>
          </a:ln>
        </p:spPr>
      </p:pic>
      <p:sp>
        <p:nvSpPr>
          <p:cNvPr id="1176" name="TextBox 14"/>
          <p:cNvSpPr/>
          <p:nvPr/>
        </p:nvSpPr>
        <p:spPr>
          <a:xfrm>
            <a:off x="4780080" y="5897520"/>
            <a:ext cx="40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un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6F61-B2C4-40D8-990F-D7C585816284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Content Placeholder 4"/>
          <p:cNvSpPr/>
          <p:nvPr/>
        </p:nvSpPr>
        <p:spPr>
          <a:xfrm>
            <a:off x="457200" y="160020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Grade-Level Stand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K-8 grade-by-grade standards organized by doma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9-12 high school standards organized by conceptual categor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Standards for Mathematical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Describe mathematical “habits of mind”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andards for mathematical proficiency: reasoning, problem solving, modeling, decision making, and engagemen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Connect with content standards in each gra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Common Core State Standards for Mathema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0E67-32AB-4606-A689-72978D92F041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Content Placeholder 4"/>
          <p:cNvSpPr/>
          <p:nvPr/>
        </p:nvSpPr>
        <p:spPr>
          <a:xfrm>
            <a:off x="457200" y="160020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e K- 8 standar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The K-5 standards provide students with a solid foundation in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whole numbers, addition, subtraction, multiplication, division, fractions and decim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The 6-8 standards describe robust learning in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geometr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,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algebra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, and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probability and statistic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Modeled after the focus of standards from high-performing nations, the standards for grades 7 and 8 includ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ignificant algebra and geometry con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udents who have completed 7</a:t>
            </a:r>
            <a:r>
              <a:rPr b="0" lang="en-US" sz="1700" spc="-1" strike="noStrike" baseline="30000">
                <a:solidFill>
                  <a:srgbClr val="6b6b6b"/>
                </a:solidFill>
                <a:latin typeface="Arial"/>
                <a:ea typeface="Geneva"/>
              </a:rPr>
              <a:t>th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grade and mastered the content and skills will b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prepared for algebra, in 8</a:t>
            </a:r>
            <a:r>
              <a:rPr b="0" i="1" lang="en-US" sz="1700" spc="-1" strike="noStrike" baseline="30000">
                <a:solidFill>
                  <a:srgbClr val="6b6b6b"/>
                </a:solidFill>
                <a:latin typeface="Arial"/>
                <a:ea typeface="Geneva"/>
              </a:rPr>
              <a:t>th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grade or after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K-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714A-7026-4CF9-8ED4-EA79B150315E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K-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Content Placeholder 9"/>
          <p:cNvSpPr/>
          <p:nvPr/>
        </p:nvSpPr>
        <p:spPr>
          <a:xfrm>
            <a:off x="228600" y="1981080"/>
            <a:ext cx="2743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Each grade includes an overview of cross-cutting themes and critical areas of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Picture 4" descr="Grade 1 Math.JPG"/>
          <p:cNvPicPr/>
          <p:nvPr/>
        </p:nvPicPr>
        <p:blipFill>
          <a:blip r:embed="rId1"/>
          <a:stretch/>
        </p:blipFill>
        <p:spPr>
          <a:xfrm>
            <a:off x="3200400" y="1371600"/>
            <a:ext cx="5638680" cy="4664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0D2C-FFC2-4EFC-AB70-E57EF448CD7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Format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K-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Content Placeholder 4"/>
          <p:cNvSpPr/>
          <p:nvPr/>
        </p:nvSpPr>
        <p:spPr>
          <a:xfrm>
            <a:off x="457200" y="160020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Domain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overarching ideas that connect topics across the gra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Cluster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illustrate progression of increasing complexity from grade to gr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andard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define what students should know and be able to do at each grad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Picture 20" descr="reading standards.JPG"/>
          <p:cNvPicPr/>
          <p:nvPr/>
        </p:nvPicPr>
        <p:blipFill>
          <a:blip r:embed="rId4"/>
          <a:stretch/>
        </p:blipFill>
        <p:spPr>
          <a:xfrm>
            <a:off x="1252440" y="3105000"/>
            <a:ext cx="6639120" cy="245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FFF0-CEA5-4550-B06F-9E8022CEA5B7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gh Schoo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hematics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e high school mathematics standards: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Call on students to practic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applying mathematical ways of thinking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o real world issues and challenge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students to develop a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depth of understanding and ability to apply mathematics to novel situations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as college students and employees regularly are called to do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mathematical model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the use of mathematics and statistics to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analyze empirical situations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understand them better, and improve decision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dentify the mathematics that all students should study in order to b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college and career read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. 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910C-24A8-4B94-985D-EB45E4055B3A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gh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hematics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457200" y="13712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ntent categorie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overarching ideas that describe strands of content in high school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Domains/Cluster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groups of standards that describe coherent aspects of the content categor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Standard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define what students should know and be able to do at each grade level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High school standards are organized around five conceptual categories: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Number and Quantity, Algebra, Functions, Geometry,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d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 Statistics and Probabilit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Modeling standards are distributed under the five major headings and are indicated with a (</a:t>
            </a:r>
            <a:r>
              <a:rPr b="0" lang="en-US" sz="1700" spc="-1" strike="noStrike">
                <a:solidFill>
                  <a:srgbClr val="6b6b6b"/>
                </a:solidFill>
                <a:latin typeface="Wingdings"/>
                <a:ea typeface="Wingdings"/>
              </a:rPr>
              <a:t>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) symbol.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ndards indicated as (+) are beyond the college and career readiness level but are necessary for advanced mathematics courses, such as calculus, discrete mathematics, and advanced statistics. Standards with a (+) may still be found in courses expected for all students.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F179-FA6D-4925-8380-EE34620B45D2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Format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High Schoo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Content Placeholder 9"/>
          <p:cNvSpPr/>
          <p:nvPr/>
        </p:nvSpPr>
        <p:spPr>
          <a:xfrm>
            <a:off x="457200" y="19051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Each content category includes an overview of the content found withi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Picture 6" descr="Number.JPG"/>
          <p:cNvPicPr/>
          <p:nvPr/>
        </p:nvPicPr>
        <p:blipFill>
          <a:blip r:embed="rId1"/>
          <a:stretch/>
        </p:blipFill>
        <p:spPr>
          <a:xfrm>
            <a:off x="3657600" y="1360440"/>
            <a:ext cx="5334120" cy="488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AD18-D620-454B-8C1B-C5F4612C895E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 Course Pathways for Mathema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91b1"/>
                </a:solidFill>
                <a:latin typeface="Arial"/>
              </a:rPr>
              <a:t>Model Mathematics Pathways: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Developed by a panel of experts convened by Achieve, including many of the standards writers and reviewer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Organize the content of the standards into coherent and rigorous course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llustrate possible approaches—models, not mandates or prescriptions for organization, curriculum or pedagog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completion of the Core in three years, allowing for specialization in the fourth year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Prepare students for a menu of courses in higher-level mathematic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 the process of finalizing – to be released by the end of Jul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Down Arrow 14"/>
          <p:cNvSpPr/>
          <p:nvPr/>
        </p:nvSpPr>
        <p:spPr>
          <a:xfrm flipV="1">
            <a:off x="2133720" y="2286000"/>
            <a:ext cx="760320" cy="327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own Arrow 48"/>
          <p:cNvSpPr/>
          <p:nvPr/>
        </p:nvSpPr>
        <p:spPr>
          <a:xfrm flipV="1">
            <a:off x="6705720" y="2286000"/>
            <a:ext cx="760320" cy="327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078D-4247-4E10-A628-EBED96627FAE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Model Course Pathways for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5"/>
          <p:cNvSpPr/>
          <p:nvPr/>
        </p:nvSpPr>
        <p:spPr>
          <a:xfrm>
            <a:off x="533520" y="5562720"/>
            <a:ext cx="3962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raditional in U.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Freeform 10"/>
          <p:cNvGrpSpPr/>
          <p:nvPr/>
        </p:nvGrpSpPr>
        <p:grpSpPr>
          <a:xfrm>
            <a:off x="1547640" y="3786120"/>
            <a:ext cx="1987560" cy="889200"/>
            <a:chOff x="1547640" y="3786120"/>
            <a:chExt cx="1987560" cy="889200"/>
          </a:xfrm>
        </p:grpSpPr>
        <p:pic>
          <p:nvPicPr>
            <p:cNvPr id="1247" name="Freeform 10" descr=""/>
            <p:cNvPicPr/>
            <p:nvPr/>
          </p:nvPicPr>
          <p:blipFill>
            <a:blip r:embed="rId1"/>
            <a:stretch/>
          </p:blipFill>
          <p:spPr>
            <a:xfrm>
              <a:off x="1547640" y="3786120"/>
              <a:ext cx="198756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"/>
            <p:cNvSpPr/>
            <p:nvPr/>
          </p:nvSpPr>
          <p:spPr>
            <a:xfrm>
              <a:off x="1600200" y="384012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Geometr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Freeform 11"/>
          <p:cNvGrpSpPr/>
          <p:nvPr/>
        </p:nvGrpSpPr>
        <p:grpSpPr>
          <a:xfrm>
            <a:off x="1547640" y="4780080"/>
            <a:ext cx="1987560" cy="888840"/>
            <a:chOff x="1547640" y="4780080"/>
            <a:chExt cx="1987560" cy="888840"/>
          </a:xfrm>
        </p:grpSpPr>
        <p:pic>
          <p:nvPicPr>
            <p:cNvPr id="1250" name="Freeform 11" descr=""/>
            <p:cNvPicPr/>
            <p:nvPr/>
          </p:nvPicPr>
          <p:blipFill>
            <a:blip r:embed="rId2"/>
            <a:stretch/>
          </p:blipFill>
          <p:spPr>
            <a:xfrm>
              <a:off x="1547640" y="4780080"/>
              <a:ext cx="1987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1" name=""/>
            <p:cNvSpPr/>
            <p:nvPr/>
          </p:nvSpPr>
          <p:spPr>
            <a:xfrm>
              <a:off x="1600200" y="483084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Algebra 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Rounded Rectangle 41"/>
          <p:cNvGrpSpPr/>
          <p:nvPr/>
        </p:nvGrpSpPr>
        <p:grpSpPr>
          <a:xfrm>
            <a:off x="407880" y="1238400"/>
            <a:ext cx="8454960" cy="1212840"/>
            <a:chOff x="407880" y="1238400"/>
            <a:chExt cx="8454960" cy="1212840"/>
          </a:xfrm>
        </p:grpSpPr>
        <p:pic>
          <p:nvPicPr>
            <p:cNvPr id="1253" name="Rounded Rectangle 41" descr=""/>
            <p:cNvPicPr/>
            <p:nvPr/>
          </p:nvPicPr>
          <p:blipFill>
            <a:blip r:embed="rId3"/>
            <a:stretch/>
          </p:blipFill>
          <p:spPr>
            <a:xfrm>
              <a:off x="407880" y="1238400"/>
              <a:ext cx="84549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4" name=""/>
            <p:cNvSpPr/>
            <p:nvPr/>
          </p:nvSpPr>
          <p:spPr>
            <a:xfrm>
              <a:off x="509760" y="1338120"/>
              <a:ext cx="82008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urses in higher level mathematics: Precalculus, Calculus (upon completion of Precalculus), Advanced Statistics, Discrete Mathematics, Advanced Quantitative Reasoning, or other courses to be designed at a later date, such as additional career technical course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TextBox 49"/>
          <p:cNvSpPr/>
          <p:nvPr/>
        </p:nvSpPr>
        <p:spPr>
          <a:xfrm>
            <a:off x="5105520" y="5562720"/>
            <a:ext cx="396216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nternational Integrated approach (typical outside of U.S</a:t>
            </a:r>
            <a:r>
              <a:rPr b="0" lang="en-US" sz="1500" spc="-1" strike="noStrike">
                <a:solidFill>
                  <a:srgbClr val="6b6b6b"/>
                </a:solidFill>
                <a:latin typeface="Arial"/>
              </a:rPr>
              <a:t>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b6b6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Freeform 52"/>
          <p:cNvGrpSpPr/>
          <p:nvPr/>
        </p:nvGrpSpPr>
        <p:grpSpPr>
          <a:xfrm>
            <a:off x="6119640" y="3786120"/>
            <a:ext cx="1987560" cy="889200"/>
            <a:chOff x="6119640" y="3786120"/>
            <a:chExt cx="1987560" cy="889200"/>
          </a:xfrm>
        </p:grpSpPr>
        <p:pic>
          <p:nvPicPr>
            <p:cNvPr id="1257" name="Freeform 52" descr=""/>
            <p:cNvPicPr/>
            <p:nvPr/>
          </p:nvPicPr>
          <p:blipFill>
            <a:blip r:embed="rId4"/>
            <a:stretch/>
          </p:blipFill>
          <p:spPr>
            <a:xfrm>
              <a:off x="6119640" y="3786120"/>
              <a:ext cx="198756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8" name=""/>
            <p:cNvSpPr/>
            <p:nvPr/>
          </p:nvSpPr>
          <p:spPr>
            <a:xfrm>
              <a:off x="6172200" y="384012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Mathematics 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Freeform 53"/>
          <p:cNvGrpSpPr/>
          <p:nvPr/>
        </p:nvGrpSpPr>
        <p:grpSpPr>
          <a:xfrm>
            <a:off x="6119640" y="4780080"/>
            <a:ext cx="1987560" cy="888840"/>
            <a:chOff x="6119640" y="4780080"/>
            <a:chExt cx="1987560" cy="888840"/>
          </a:xfrm>
        </p:grpSpPr>
        <p:pic>
          <p:nvPicPr>
            <p:cNvPr id="1260" name="Freeform 53" descr=""/>
            <p:cNvPicPr/>
            <p:nvPr/>
          </p:nvPicPr>
          <p:blipFill>
            <a:blip r:embed="rId5"/>
            <a:stretch/>
          </p:blipFill>
          <p:spPr>
            <a:xfrm>
              <a:off x="6119640" y="4780080"/>
              <a:ext cx="1987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"/>
            <p:cNvSpPr/>
            <p:nvPr/>
          </p:nvSpPr>
          <p:spPr>
            <a:xfrm>
              <a:off x="6172200" y="483084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Mathematics 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Freeform 22"/>
          <p:cNvGrpSpPr/>
          <p:nvPr/>
        </p:nvGrpSpPr>
        <p:grpSpPr>
          <a:xfrm>
            <a:off x="1547640" y="2840040"/>
            <a:ext cx="1987560" cy="890640"/>
            <a:chOff x="1547640" y="2840040"/>
            <a:chExt cx="1987560" cy="890640"/>
          </a:xfrm>
        </p:grpSpPr>
        <p:pic>
          <p:nvPicPr>
            <p:cNvPr id="1263" name="Freeform 22" descr=""/>
            <p:cNvPicPr/>
            <p:nvPr/>
          </p:nvPicPr>
          <p:blipFill>
            <a:blip r:embed="rId6"/>
            <a:stretch/>
          </p:blipFill>
          <p:spPr>
            <a:xfrm>
              <a:off x="1547640" y="2840040"/>
              <a:ext cx="19875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"/>
            <p:cNvSpPr/>
            <p:nvPr/>
          </p:nvSpPr>
          <p:spPr>
            <a:xfrm>
              <a:off x="1600200" y="289548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Algebra 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Freeform 23"/>
          <p:cNvGrpSpPr/>
          <p:nvPr/>
        </p:nvGrpSpPr>
        <p:grpSpPr>
          <a:xfrm>
            <a:off x="6119640" y="2840040"/>
            <a:ext cx="1987560" cy="890640"/>
            <a:chOff x="6119640" y="2840040"/>
            <a:chExt cx="1987560" cy="890640"/>
          </a:xfrm>
        </p:grpSpPr>
        <p:pic>
          <p:nvPicPr>
            <p:cNvPr id="1266" name="Freeform 23" descr=""/>
            <p:cNvPicPr/>
            <p:nvPr/>
          </p:nvPicPr>
          <p:blipFill>
            <a:blip r:embed="rId7"/>
            <a:stretch/>
          </p:blipFill>
          <p:spPr>
            <a:xfrm>
              <a:off x="6119640" y="2840040"/>
              <a:ext cx="19875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>
              <a:off x="6172200" y="289548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Mathematics I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Picture 10" descr="_0007_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69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270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8"/>
          <p:cNvSpPr/>
          <p:nvPr/>
        </p:nvSpPr>
        <p:spPr>
          <a:xfrm>
            <a:off x="3581280" y="3352680"/>
            <a:ext cx="55436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Core State Standards for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glish Language Arts and Literacy in History/ Social Studies, Science, and Technical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mon Core State Standards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9072-73E7-48CF-8DA6-9A8E8B3C9C3D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Content Placeholder 1"/>
          <p:cNvSpPr/>
          <p:nvPr/>
        </p:nvSpPr>
        <p:spPr>
          <a:xfrm>
            <a:off x="838080" y="1828800"/>
            <a:ext cx="7467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Beginning in the spring of 2009, Governors and state commissioners of education from 48 states, 2 territories and the District of Columbia committed to developing a common core of state K-12 English-language arts (ELA) and mathematics standar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1d91b1"/>
                </a:solidFill>
                <a:latin typeface="Arial"/>
              </a:rPr>
              <a:t>Common Core State Standards Initiative (CCSSI)</a:t>
            </a: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 is a state-led effort coordinated by the National Governors Association (NGA) and the Council of Chief State School Officers (CCSS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63685"/>
                </a:solidFill>
                <a:uFillTx/>
                <a:latin typeface="Arial"/>
                <a:ea typeface="Geneva"/>
              </a:rPr>
              <a:t>www.corestandards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8EE5-2C50-44A1-94A7-681B9E1AFD26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f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Language Arts and Literacy in History/Social Studies, Science, and Technical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ollege and Career Readiness (CCR) Standards  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Overarching standards for each strand that are further defined by grade-specific standard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Grade-Level Standards in English Language Arts 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-8, grade-by-grade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9-10 and 11-12 grade bands for high school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ur strands: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Read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Writ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Speaking and Listen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and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Language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tandards for Literacy in History/Social Studies, Science, and Technical Subjects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ndards are embedded at grades K-5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Content-specific literacy standards are provided for grades 6-8, 9-10, and 11-12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3" marL="1425600" indent="-287280">
              <a:lnSpc>
                <a:spcPct val="115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CF29-04A2-417A-B95C-E30EDADE9639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Rea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St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Box 6"/>
          <p:cNvSpPr/>
          <p:nvPr/>
        </p:nvSpPr>
        <p:spPr>
          <a:xfrm>
            <a:off x="457200" y="1600200"/>
            <a:ext cx="8229600" cy="36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Progressive development of reading comprehension; students gain more from what they read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the importance of grade-level texts that are of appropriate difficulty and are increasingly sophisticat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andards for Reading Foundational Skills (K-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Literature (K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Informational Text (K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Literacy in History/Social Studies (6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Literacy in Science and Technical Subjects (6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3F73-2613-41AB-9F21-ABF81809B138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Text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4"/>
          <p:cNvSpPr/>
          <p:nvPr/>
        </p:nvSpPr>
        <p:spPr>
          <a:xfrm>
            <a:off x="457200" y="1295280"/>
            <a:ext cx="8229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include over exemplar texts (stories and literature, poetry, and informational texts) that illustrate appropriate level of complexity by g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  <a:ea typeface="Geneva"/>
              </a:rPr>
              <a:t>Text complexity is defin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29"/>
          <p:cNvGrpSpPr/>
          <p:nvPr/>
        </p:nvGrpSpPr>
        <p:grpSpPr>
          <a:xfrm>
            <a:off x="457200" y="2971800"/>
            <a:ext cx="7428600" cy="2859120"/>
            <a:chOff x="457200" y="2971800"/>
            <a:chExt cx="7428600" cy="2859120"/>
          </a:xfrm>
        </p:grpSpPr>
        <p:grpSp>
          <p:nvGrpSpPr>
            <p:cNvPr id="1286" name="Group 28"/>
            <p:cNvGrpSpPr/>
            <p:nvPr/>
          </p:nvGrpSpPr>
          <p:grpSpPr>
            <a:xfrm>
              <a:off x="5801760" y="3097800"/>
              <a:ext cx="2084040" cy="2733120"/>
              <a:chOff x="5801760" y="3097800"/>
              <a:chExt cx="2084040" cy="2733120"/>
            </a:xfrm>
          </p:grpSpPr>
          <p:sp>
            <p:nvSpPr>
              <p:cNvPr id="1287" name="Isosceles Triangle 22"/>
              <p:cNvSpPr/>
              <p:nvPr/>
            </p:nvSpPr>
            <p:spPr>
              <a:xfrm rot="7297200">
                <a:off x="5472360" y="4084560"/>
                <a:ext cx="2742480" cy="75888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TextBox 18"/>
              <p:cNvSpPr/>
              <p:nvPr/>
            </p:nvSpPr>
            <p:spPr>
              <a:xfrm rot="17950800">
                <a:off x="5981040" y="419652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ualit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TextBox 25"/>
            <p:cNvSpPr/>
            <p:nvPr/>
          </p:nvSpPr>
          <p:spPr>
            <a:xfrm>
              <a:off x="457200" y="2971800"/>
              <a:ext cx="53442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Qualitative measures – levels of meaning, structure, language conventionality and clarity, and knowledge deman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Group 30"/>
          <p:cNvGrpSpPr/>
          <p:nvPr/>
        </p:nvGrpSpPr>
        <p:grpSpPr>
          <a:xfrm>
            <a:off x="457200" y="3091680"/>
            <a:ext cx="8228880" cy="2745000"/>
            <a:chOff x="457200" y="3091680"/>
            <a:chExt cx="8228880" cy="2745000"/>
          </a:xfrm>
        </p:grpSpPr>
        <p:sp>
          <p:nvSpPr>
            <p:cNvPr id="1291" name="Isosceles Triangle 23"/>
            <p:cNvSpPr/>
            <p:nvPr/>
          </p:nvSpPr>
          <p:spPr>
            <a:xfrm flipH="1" rot="14352600">
              <a:off x="6286320" y="4084560"/>
              <a:ext cx="2743200" cy="758880"/>
            </a:xfrm>
            <a:prstGeom prst="triangle">
              <a:avLst>
                <a:gd name="adj" fmla="val 50000"/>
              </a:avLst>
            </a:prstGeom>
            <a:solidFill>
              <a:srgbClr val="dd4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Box 19"/>
            <p:cNvSpPr/>
            <p:nvPr/>
          </p:nvSpPr>
          <p:spPr>
            <a:xfrm rot="3558000">
              <a:off x="7062120" y="419076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Box 26"/>
            <p:cNvSpPr/>
            <p:nvPr/>
          </p:nvSpPr>
          <p:spPr>
            <a:xfrm>
              <a:off x="457200" y="3893760"/>
              <a:ext cx="53442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Quantitative measures – readability and other scores of text complex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31"/>
          <p:cNvGrpSpPr/>
          <p:nvPr/>
        </p:nvGrpSpPr>
        <p:grpSpPr>
          <a:xfrm>
            <a:off x="457200" y="4559400"/>
            <a:ext cx="8229600" cy="970560"/>
            <a:chOff x="457200" y="4559400"/>
            <a:chExt cx="8229600" cy="970560"/>
          </a:xfrm>
        </p:grpSpPr>
        <p:sp>
          <p:nvSpPr>
            <p:cNvPr id="1295" name="Isosceles Triangle 21"/>
            <p:cNvSpPr/>
            <p:nvPr/>
          </p:nvSpPr>
          <p:spPr>
            <a:xfrm>
              <a:off x="5829480" y="4732920"/>
              <a:ext cx="2857320" cy="758880"/>
            </a:xfrm>
            <a:prstGeom prst="triangle">
              <a:avLst>
                <a:gd name="adj" fmla="val 50000"/>
              </a:avLst>
            </a:prstGeom>
            <a:solidFill>
              <a:srgbClr val="2e7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Box 20"/>
            <p:cNvSpPr/>
            <p:nvPr/>
          </p:nvSpPr>
          <p:spPr>
            <a:xfrm>
              <a:off x="6210360" y="51616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der and Ta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Box 27"/>
            <p:cNvSpPr/>
            <p:nvPr/>
          </p:nvSpPr>
          <p:spPr>
            <a:xfrm>
              <a:off x="457200" y="4559400"/>
              <a:ext cx="534456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Reader and Task – background knowledge of reader, motivation, interests, and complexity generated by tasks assign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AFAF-47DA-4583-89CD-507E710A48B8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of Grade-Level Progression in Rea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CR Reading Standard 3: Analyze how and why individuals, events, and ideas develop and interact over the course of a text.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aphicFrame>
        <p:nvGraphicFramePr>
          <p:cNvPr id="1301" name=""/>
          <p:cNvGraphicFramePr/>
          <p:nvPr/>
        </p:nvGraphicFramePr>
        <p:xfrm>
          <a:off x="457200" y="2438280"/>
          <a:ext cx="8229600" cy="3632400"/>
        </p:xfrm>
        <a:graphic>
          <a:graphicData uri="http://schemas.openxmlformats.org/drawingml/2006/table">
            <a:tbl>
              <a:tblPr/>
              <a:tblGrid>
                <a:gridCol w="3809880"/>
                <a:gridCol w="381240"/>
                <a:gridCol w="403848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263685"/>
                          </a:solidFill>
                          <a:latin typeface="Arial"/>
                        </a:rPr>
                        <a:t>Reading Standards for Lit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263685"/>
                          </a:solidFill>
                          <a:latin typeface="Arial"/>
                        </a:rPr>
                        <a:t>Reading Standards for Informational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3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e characters in a story (e.g., their traits, motivations, or feelings) and explain how their actions contribute to the sequence of ev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3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e the relationships between a series of historical events, scientific ideas of concepts, or steps in technical procedures in a text, using language that pertains to time, sequence, and cause/effe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7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how particular elements of a story or drama interact (e.g., how setting shapes the characters or plo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7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the interactions between individuals, events, and ideas in a text (e.g., how ideas influence individuals or events, or how individuals influence ideas or events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s 11-12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 various explanations for characters’ actions or for events and determine which explanation best accords with textual evidence, acknowledging where the text leaves matters uncerta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s 11-12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a complex set of ideas or sequence of events and explain how specific individuals, ideas, or events interact and develop over the course of the tex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</a:tr>
            </a:tbl>
          </a:graphicData>
        </a:graphic>
      </p:graphicFrame>
      <p:sp>
        <p:nvSpPr>
          <p:cNvPr id="1302" name="Down Arrow 5"/>
          <p:cNvSpPr/>
          <p:nvPr/>
        </p:nvSpPr>
        <p:spPr>
          <a:xfrm>
            <a:off x="4343400" y="2438280"/>
            <a:ext cx="228600" cy="3353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AEFC-7F37-4F6A-9D9F-6D9F13342395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de-Level Prog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45720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mat highlights progression of standards across grade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1306" name="Picture 6" descr="Reading Kil.JPG"/>
          <p:cNvPicPr/>
          <p:nvPr/>
        </p:nvPicPr>
        <p:blipFill>
          <a:blip r:embed="rId1"/>
          <a:stretch/>
        </p:blipFill>
        <p:spPr>
          <a:xfrm>
            <a:off x="457200" y="2050920"/>
            <a:ext cx="8153280" cy="4056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B5AA-2A72-4C98-919E-E55FE7251A7D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ri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7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Writing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pect students to compose arguments and opinions, informative/explanatory pieces, and narrative tex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cus on the use of reason and evidence to substantiate an argument or claim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ability to conduct research – short projects and sustained inquir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students to incorporate technology as they create, refine, and collaborate on writ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clude student writing samples that illustrate the criteria required to meet the standards (See standards’ appendices for writing samples)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81EA-7BF5-4E9E-89F1-82CB8DD95E14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peaking and Listen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angua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457200" y="1447560"/>
            <a:ext cx="82296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peaking and Listening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cus on speaking and listening in a range of settings, both formal and informal –  academic, small-group, whole-class discussion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effective communication practice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interpretation and analysis of message as presented through oral, visual, or multimodal forma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clude conventions for writing and speak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Highlight the importance of vocabulary acquisition through a mix of conversation, direct instruction, and read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o be addressed in context of reading, writing, speaking and listen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1b2"/>
                </a:solidFill>
                <a:latin typeface="Arial"/>
              </a:rPr>
              <a:t>Media and Technology are integrated throughout the standards.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EBBC-5F41-4509-9F04-934DA9CA11D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Standards f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story/Social Studies, Science, and Technical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457200" y="160020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Reading Standards for History/Social Studies, Science, and Technical Subject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nowledge of domain-specific vocabular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alyze, evaluate, and differentiate primary and secondary source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ynthesize quantitative and technical information, including facts presented in maps, timelines, flowcharts, or diagram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Writing Standards for History/Social Studies, Science, and Technical Subject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Write arguments on discipline-specific content and informative/explanatory tex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Use of data, evidence, and reason to support arguments and claim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Use of domain-specific vocabular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10" descr="_0005_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7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318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3" name="Picture 44" descr="small_logo.jpg"/>
          <p:cNvPicPr/>
          <p:nvPr/>
        </p:nvPicPr>
        <p:blipFill>
          <a:blip r:embed="rId2"/>
          <a:stretch/>
        </p:blipFill>
        <p:spPr>
          <a:xfrm>
            <a:off x="385920" y="5897520"/>
            <a:ext cx="2141280" cy="600120"/>
          </a:xfrm>
          <a:prstGeom prst="rect">
            <a:avLst/>
          </a:prstGeom>
          <a:ln w="0">
            <a:noFill/>
          </a:ln>
        </p:spPr>
      </p:pic>
      <p:sp>
        <p:nvSpPr>
          <p:cNvPr id="1324" name="Text Box 8"/>
          <p:cNvSpPr/>
          <p:nvPr/>
        </p:nvSpPr>
        <p:spPr>
          <a:xfrm>
            <a:off x="3581280" y="3581280"/>
            <a:ext cx="55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Understanding the Common Core State Standard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2"/>
          <p:cNvSpPr/>
          <p:nvPr/>
        </p:nvSpPr>
        <p:spPr>
          <a:xfrm>
            <a:off x="4780080" y="5897520"/>
            <a:ext cx="40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un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Common Core State Standar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06C9-100E-49D6-8E56-FF3CDFAA2BE3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5"/>
          <p:cNvSpPr/>
          <p:nvPr/>
        </p:nvSpPr>
        <p:spPr>
          <a:xfrm>
            <a:off x="457200" y="1600200"/>
            <a:ext cx="8229600" cy="36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Preparation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he standards are college- and career-ready. They will help prepare students with the knowledge and skills they need to succeed in education and training after high schoo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mpetition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he standards are internationally benchmarked. Common standards will help ensure our students are globally competitiv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Equity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pectations are consistent for all – and not dependent on a student’s zip cod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larity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The standards are focused, coherent, and clear. Clearer standards help students (and parents and teachers) understand what is expected of th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llaboration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The standards create a foundation to work collaboratively across states and districts, pooling resources and expertise, to create curricular tools, professional development, common assessments and other materi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and Tim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45CD-DEE7-4E27-B6B7-9CAD3EF450D7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5"/>
          <p:cNvSpPr/>
          <p:nvPr/>
        </p:nvSpPr>
        <p:spPr>
          <a:xfrm>
            <a:off x="457200" y="1600200"/>
            <a:ext cx="822960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91b1"/>
                </a:solidFill>
                <a:latin typeface="Arial"/>
              </a:rPr>
              <a:t>K-12 Common Standards:</a:t>
            </a:r>
            <a:r>
              <a:rPr b="0" lang="en-US" sz="1800" spc="-1" strike="noStrike">
                <a:solidFill>
                  <a:srgbClr val="1d91b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28260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Core writing teams in English Language Arts and Mathematics (See </a:t>
            </a:r>
            <a:r>
              <a:rPr b="0" lang="en-US" sz="1700" spc="-1" strike="noStrike" u="sng">
                <a:solidFill>
                  <a:srgbClr val="0091b2"/>
                </a:solidFill>
                <a:uFillTx/>
                <a:latin typeface="Arial"/>
              </a:rPr>
              <a:t>www.corestandards.or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for list of team member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ternal and state feedback teams provided on-going feedback to writing teams throughout the pro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Draft K-12 standards were released for public comment on March 10, 2010; 9,600 comments receiv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Validation Committee of leading experts reviews standar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d91b1"/>
                </a:solidFill>
                <a:latin typeface="Arial"/>
              </a:rPr>
              <a:t>Final standards were released </a:t>
            </a:r>
            <a:r>
              <a:rPr b="1" lang="en-US" sz="1700" spc="-1" strike="noStrike" u="sng">
                <a:solidFill>
                  <a:srgbClr val="1d91b1"/>
                </a:solidFill>
                <a:uFillTx/>
                <a:latin typeface="Arial"/>
              </a:rPr>
              <a:t>June 2, 201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edback and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B6DC-A9E2-4980-B025-854F5F93432D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57200" y="1523880"/>
            <a:ext cx="8229600" cy="45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External and State Feedback teams included: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260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-12 teachers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Postsecondary facult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te curriculum and assessments exper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searcher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National organizations (including, but not limited, to):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b6b6b"/>
              </a:solidFill>
              <a:latin typeface="Arial"/>
            </a:endParaRPr>
          </a:p>
          <a:p>
            <a:pPr lvl="2" marL="573120" indent="-282600">
              <a:spcBef>
                <a:spcPts val="601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573120" indent="-282600">
              <a:spcBef>
                <a:spcPts val="601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573120" indent="-282600"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1066680" y="3962520"/>
          <a:ext cx="7772400" cy="1996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996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84040" indent="-284040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American Council on Education (ACE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American Federation of Teachers (AF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Campaign for High School Equity (CHS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Conference Board of the Mathematical Sciences (CBM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Modern Language Association (ML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84040" indent="-2840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National Council of Teachers of English (NCTE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National Council of Teachers of Mathematics (NCT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National Education Association (NE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Desig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23AD-D3B8-4189-86B6-C465F8071734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e4a11b"/>
                </a:solidFill>
                <a:latin typeface="Arial"/>
                <a:ea typeface="Arial"/>
              </a:rPr>
              <a:t>*Ready for first-year credit-bearing, postsecondary coursework in mathematics and English without the need for reme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Building on the strength of current state standards, the CCSS are designed to be: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584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cused, coherent, clear and rigorou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58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ternationally benchmarked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58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chored in college and career readiness*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58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vidence and research based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Evidenc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4AEC-34D4-4955-8D84-2A8916800BF9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57200" y="1523880"/>
            <a:ext cx="8229600" cy="45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Evidence was used to guide critical decisions in the following areas: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260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clusion of particular content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iming of when content should be introduced and the progression of that content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nsuring focus and coherence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Organizing and formatting the standard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Determining emphasis on particular topics in standard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Evidence includes: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ndards from high-performing countries, leading states, and nationally-regarded framework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search on adolescent literacy, text complexity, mathematics instruction, quantitative literacy 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Lists of works consulted and research base included in standards’ appendice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Evidenc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1A8E-DA1E-4D12-A313-1A5450D99EA1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457200" y="144756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 example: Standards from individual high-performing countries and provinces were used to inform content, structure, and language. Writing teams looked for examples of rigor, coherence, and progression.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pSp>
        <p:nvGrpSpPr>
          <p:cNvPr id="1203" name="Group 6"/>
          <p:cNvGrpSpPr/>
          <p:nvPr/>
        </p:nvGrpSpPr>
        <p:grpSpPr>
          <a:xfrm>
            <a:off x="981000" y="2590920"/>
            <a:ext cx="7317000" cy="3555000"/>
            <a:chOff x="981000" y="2590920"/>
            <a:chExt cx="7317000" cy="3555000"/>
          </a:xfrm>
        </p:grpSpPr>
        <p:sp>
          <p:nvSpPr>
            <p:cNvPr id="1204" name="TextBox 7"/>
            <p:cNvSpPr/>
            <p:nvPr/>
          </p:nvSpPr>
          <p:spPr>
            <a:xfrm>
              <a:off x="981000" y="2590920"/>
              <a:ext cx="3438720" cy="35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6b"/>
                  </a:solidFill>
                  <a:latin typeface="Arial"/>
                </a:rPr>
                <a:t>Mathema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Belgium (Flemish)</a:t>
              </a:r>
              <a:r>
                <a:rPr b="1" i="1" lang="en-US" sz="1700" spc="-1" strike="noStrike">
                  <a:solidFill>
                    <a:srgbClr val="6b6b6b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anada (Albert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hin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hinese Taipe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Eng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Fin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Hong Ko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nd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re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Jap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Ko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Singap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Box 8"/>
            <p:cNvSpPr/>
            <p:nvPr/>
          </p:nvSpPr>
          <p:spPr>
            <a:xfrm>
              <a:off x="4861080" y="2590920"/>
              <a:ext cx="3436920" cy="35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6b"/>
                  </a:solidFill>
                  <a:latin typeface="Arial"/>
                </a:rPr>
                <a:t>English language a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Austral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New South Wal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Victor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anad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Albert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British Columb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Ontari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Eng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Fin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Hong Ko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re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Singap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Picture 10" descr="_0007_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7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208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2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8"/>
          <p:cNvSpPr/>
          <p:nvPr/>
        </p:nvSpPr>
        <p:spPr>
          <a:xfrm>
            <a:off x="3581280" y="3581280"/>
            <a:ext cx="55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Common Core State Standards for </a:t>
            </a: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Mathematic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4:38:41Z</dcterms:created>
  <dc:creator>Laura Slover</dc:creator>
  <dc:description/>
  <dc:language>en-US</dc:language>
  <cp:lastModifiedBy>NYCDOE</cp:lastModifiedBy>
  <cp:lastPrinted>2010-02-24T23:39:36Z</cp:lastPrinted>
  <dcterms:modified xsi:type="dcterms:W3CDTF">2011-09-15T12:45:10Z</dcterms:modified>
  <cp:revision>598</cp:revision>
  <dc:subject/>
  <dc:title>Slide 1</dc:title>
</cp:coreProperties>
</file>